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5C3-6FBB-467C-BA59-2EFF98AD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1EF-49C7-4BA8-BAFF-3D470123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4BFC-B257-4FBE-8B5A-040E05E3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423-7DDC-4605-A0BF-E6A99410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A9DA-C090-4AEE-8C36-665BBFF2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1D88-F5F7-43A0-BA47-82AE9643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7408-3F83-4783-9A65-D95A66D9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1D1C-D8B9-42E5-B3EB-3643478D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A366-7561-4A1C-8442-9835FE87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B117-5268-4973-9125-C40E8E4B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F4AD-826C-4B09-A449-108B85ED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1FB-E4DA-4C22-A3B4-52A3E0BA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A885-12E8-4543-92D9-80D10DE0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B5C0-37D4-4533-913D-DE609157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A94D-0F96-4878-B20F-68BDD5A6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1B99-7E3C-490F-A196-E6BA1FB2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C728-D2ED-4B2D-99F7-EA921E75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D617-0FB7-4B07-A209-1382DFE3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294-2BE0-4DD1-A299-42E58563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535-822C-48FE-8FEF-F4E59D28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BC30-E0BF-4280-87E7-CF7AE60C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A19-F966-45FD-9A4A-61E7F7F0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C8F-A8F5-4EC4-B5C1-B5F99574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BAA-FC4B-47A7-BDEF-B9111056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4A0D-500E-4B6F-AA39-2643DE5020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D1F3-86F5-4F96-982D-70F818BC12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0;&#1074;&#1089;&#1090;&#1088;&#1080;&#1103;" TargetMode="External"/><Relationship Id="rId3" Type="http://schemas.openxmlformats.org/officeDocument/2006/relationships/hyperlink" Target="http://www.worldstory.ru/austria/01.html" TargetMode="External"/><Relationship Id="rId4" Type="http://schemas.openxmlformats.org/officeDocument/2006/relationships/hyperlink" Target="http://www.calend.ru/holidays/austria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18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Австрия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льсова 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 курс КГП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 Сыктывкар, 200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нформационные ресурс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ru.wikipedia.org/wiki/%D0%90%D0%B2%D1%81%D1%82%D1%80%D0%B8%D1%8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ttp://www.worldstory.ru/austria/01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http://www.calend.ru/holidays/austria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сновополагающий вопрос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мы знаем об этой стран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блемные вопрос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м она отличается от других стран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м знаменита эта стра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привлекает в н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меты: немецкий язык, исто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еники 9-10 клас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идактические цели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ширить кругоз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звать интерес к изучаемому язы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етодические задачи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ть со страной изучаемого язы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делить ее особе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учить историю, тради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Темы самостоятельных исследований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зникновение и развит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стрия в наше врем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адиции и обыча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ол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стопримеча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едставление результатов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зент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ступ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кла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Этапы и сро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час - выбор и формулировка т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-2 час - поиск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час - самостоятельная раб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час - представление результа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32:07Z</dcterms:created>
  <dc:creator>ДАША</dc:creator>
  <dc:description/>
  <dc:language>en-US</dc:language>
  <cp:lastModifiedBy>ДАША</cp:lastModifiedBy>
  <dcterms:modified xsi:type="dcterms:W3CDTF">2009-12-08T10:24:23Z</dcterms:modified>
  <cp:revision>4</cp:revision>
  <dc:subject/>
  <dc:title>Австрия</dc:title>
</cp:coreProperties>
</file>